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EAC-D0E4-4FB4-98D9-1197F4EE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804-9D1D-46AE-BFCA-292A0507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589-E118-417E-B2FB-7ED98AE4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42C-EE54-4C52-8CF9-CFA8D6C3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72F1-BD22-4EC5-8901-705EF657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B584-FE17-41B2-B188-1A2BA8D6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594E-143D-4ABA-A742-D57E5F29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592E-5D9C-41CE-A299-19A46C7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2309-5BE8-41E8-8A3B-B8D007CD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E858-AB4D-486F-8328-0BACC7F8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AB0D-AB1F-45B3-8784-5A89A30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885-9667-4257-B244-CF63CF86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8851-7C44-46F9-8AB8-FC39B9DD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D63A-6163-4282-A08A-51002661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6519-5EC8-421A-8E45-A037B3BE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2D7F-34BA-4CF0-903A-0C871A31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9344-E1CD-4F6D-81FC-E480668E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CEA-E689-45C3-A562-E4C3DCEA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631-4FD4-40FA-88DF-77AE205E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A03-F201-4040-8874-E91D8781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81D-49ED-4351-809A-232EC99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FF0-919B-433C-B425-FA99C8D6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E9C-286F-43BF-9B05-9539F45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F51-D63A-4F41-A488-20769AA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CD11-FEFB-4AAC-8023-92A15307D3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90F3-0564-4258-A224-EB4384A69B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一章  经济全球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主要内容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产生与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特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发展趋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一、经济全球化的产生与发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定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资源配置角度的定义：资源配置的全球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生产关系角度的定义：资本主义生产关系的全球普遍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发展历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以前的萌芽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初的生长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两次世界大战期间以及战后的曲折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末而今的迅速扩展与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经济全球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跨国公司作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技术进步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国际机构驱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矛盾演化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综合因素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界政治环境的变化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科学技术突破性发展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跨国公司的全球战略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新自由主义的兴起（国际组织奉行“华盛顿共识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ashington Consensus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最早由当时任世界银行官员的经济学家约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威廉姆森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ohn Williamson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99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提出。当时他提出这一“共识”基于拉美国家截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代末经济改革的既有成败经验，提出“共识”的意图是把它作为拉美国家经济改革的指导思想。“华盛顿共识”出台之后，得到了世界银行和国际货币基金组织的支持。主要内容：税收改革（降低边际税率和扩大税基）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利率自由化，竞争性的汇率，贸易自由化，外国直接投资的流入自由化，私有化，放松管制（以消除进入或者退出障碍），保护产权。世界银行和国际货币基金组织等国际组织把“华盛顿共识”作为发展援助或者危机救援的 “前置条件”使用，推进经济自由化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经济全球化的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经济和新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为基础的经济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垂直型、水平型）日益深化的经济全球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主体的多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银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市场体系的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与国际间区域一体化和集团化并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国的核心竞争力发生变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和人力资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达国家在经济全球化过程中起着主导作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全球化背景下更加凸显国家和民族利益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经济全球化的影响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达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积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拓展市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贸易增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竞争推动技术创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消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资源与环境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业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展中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吸引外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引进外来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推动技术进步和产业调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强企业竞争力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得以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贸易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不利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中的不利地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展中国家的发展不平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主权受到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安全受到挑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经济全球化发展趋势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金融业在经济全球化中举足轻重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国际贸易进一步推动市场的一体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跨国公司推动着全球化的深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信息技术将彻底改变人类的生产与生活方式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经济风险全球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5:56:29Z</dcterms:created>
  <dc:creator>YPL</dc:creator>
  <dc:description/>
  <dc:language>en-US</dc:language>
  <cp:lastModifiedBy>Dell</cp:lastModifiedBy>
  <dcterms:modified xsi:type="dcterms:W3CDTF">2021-08-23T22:43:04Z</dcterms:modified>
  <cp:revision>15</cp:revision>
  <dc:subject/>
  <dc:title>第一章  经济全球化</dc:title>
</cp:coreProperties>
</file>